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DB2E-9A91-4C6B-9E17-D4CE370B4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799E-C62C-40DF-9EAC-0F10D06E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0DD5-8D3D-4E6A-9375-7F4E992E9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A81A-D30E-4277-90BE-80D981CED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B984-8E4F-48FC-9CDA-C58E1A16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9DF1-E7F7-47C4-AFFC-76797F53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80B1-CA88-4D72-AF55-3E0478EE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A979-FBE5-40E8-A15C-45DC387C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4C11-607A-4726-8F93-791C87F9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0674-BD16-45B5-B52E-A776AAF1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F788-39AC-4BD7-85AC-CB43E3E2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75B1-E42D-40EB-8363-06F4353B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8CD0-DDB6-4423-A693-A818AED39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416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EPC LogoCMYK" descr=""/>
          <p:cNvPicPr/>
          <p:nvPr/>
        </p:nvPicPr>
        <p:blipFill>
          <a:blip r:embed="rId2"/>
          <a:stretch/>
        </p:blipFill>
        <p:spPr>
          <a:xfrm>
            <a:off x="685800" y="152280"/>
            <a:ext cx="2743200" cy="9892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4114800" y="314280"/>
            <a:ext cx="4419720" cy="58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COA LM2500 Project Descri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Located Adjacent to Existing TACOA 1,500 MW Power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e will be Shared with (2) LM6000 Gas Turb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 MW Capacity from (2) Used Refurbished LM2500 Gas Turbines Purchased by EDC under Separate Contract from ProEnergy and Additional BOP Equipment from our Partner, Derwick Asso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s will Operate on Gas with Water Injection &amp; Diesel Back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BOP Equipment to be Supplied by ProEnergy E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Energy EPC to Design, and Construct the Project on a Turnkey Basis Utilizing US Based Engineering and Project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Energy EPC will Utilize Local Subcontractors for Civil, Erection and Electrical-Mechanical Labor to Construct th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Energy EPC will Utilize ProEnergy US-Based Technicians for Commissioning and Testing of the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Schedule Kick-off June 1, 2009 &amp; COD Dec.30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315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erial View of the TACOA Project Si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371600" y="1320840"/>
          <a:ext cx="7162920" cy="553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320840"/>
                    <a:ext cx="7162920" cy="55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838080" y="932040"/>
          <a:ext cx="7315200" cy="56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32040"/>
                    <a:ext cx="7315200" cy="56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14400" y="941400"/>
          <a:ext cx="7467480" cy="57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41400"/>
                    <a:ext cx="7467480" cy="57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62120" y="941400"/>
          <a:ext cx="7619760" cy="58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41400"/>
                    <a:ext cx="7619760" cy="58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19:55:54Z</dcterms:created>
  <dc:creator>PES</dc:creator>
  <dc:description/>
  <dc:language>en-US</dc:language>
  <cp:lastModifiedBy>PES</cp:lastModifiedBy>
  <dcterms:modified xsi:type="dcterms:W3CDTF">2009-05-19T22:51:59Z</dcterms:modified>
  <cp:revision>10</cp:revision>
  <dc:subject/>
  <dc:title>Slide 1</dc:title>
</cp:coreProperties>
</file>